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</p:sldMasterIdLst>
  <p:notesMasterIdLst>
    <p:notesMasterId r:id="rId60"/>
  </p:notesMasterIdLst>
  <p:sldIdLst>
    <p:sldId id="256" r:id="rId61"/>
    <p:sldId id="257" r:id="rId62"/>
    <p:sldId id="258" r:id="rId63"/>
    <p:sldId id="259" r:id="rId64"/>
    <p:sldId id="260" r:id="rId65"/>
    <p:sldId id="261" r:id="rId66"/>
    <p:sldId id="262" r:id="rId67"/>
    <p:sldId id="263" r:id="rId68"/>
    <p:sldId id="264" r:id="rId69"/>
    <p:sldId id="265" r:id="rId70"/>
    <p:sldId id="266" r:id="rId71"/>
    <p:sldId id="267" r:id="rId72"/>
    <p:sldId id="268" r:id="rId73"/>
    <p:sldId id="269" r:id="rId7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notesMaster" Target="notesMasters/notesMaster1.xml"/><Relationship Id="rId61" Type="http://schemas.openxmlformats.org/officeDocument/2006/relationships/slide" Target="slides/slide1.xml"/><Relationship Id="rId62" Type="http://schemas.openxmlformats.org/officeDocument/2006/relationships/slide" Target="slides/slide2.xml"/><Relationship Id="rId63" Type="http://schemas.openxmlformats.org/officeDocument/2006/relationships/slide" Target="slides/slide3.xml"/><Relationship Id="rId64" Type="http://schemas.openxmlformats.org/officeDocument/2006/relationships/slide" Target="slides/slide4.xml"/><Relationship Id="rId65" Type="http://schemas.openxmlformats.org/officeDocument/2006/relationships/slide" Target="slides/slide5.xml"/><Relationship Id="rId66" Type="http://schemas.openxmlformats.org/officeDocument/2006/relationships/slide" Target="slides/slide6.xml"/><Relationship Id="rId67" Type="http://schemas.openxmlformats.org/officeDocument/2006/relationships/slide" Target="slides/slide7.xml"/><Relationship Id="rId68" Type="http://schemas.openxmlformats.org/officeDocument/2006/relationships/slide" Target="slides/slide8.xml"/><Relationship Id="rId69" Type="http://schemas.openxmlformats.org/officeDocument/2006/relationships/slide" Target="slides/slide9.xml"/><Relationship Id="rId70" Type="http://schemas.openxmlformats.org/officeDocument/2006/relationships/slide" Target="slides/slide10.xml"/><Relationship Id="rId71" Type="http://schemas.openxmlformats.org/officeDocument/2006/relationships/slide" Target="slides/slide11.xml"/><Relationship Id="rId72" Type="http://schemas.openxmlformats.org/officeDocument/2006/relationships/slide" Target="slides/slide12.xml"/><Relationship Id="rId73" Type="http://schemas.openxmlformats.org/officeDocument/2006/relationships/slide" Target="slides/slide13.xml"/><Relationship Id="rId74" Type="http://schemas.openxmlformats.org/officeDocument/2006/relationships/slide" Target="slides/slide14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dt" idx="8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ftr" idx="9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6"/>
          <p:cNvSpPr>
            <a:spLocks noGrp="1"/>
          </p:cNvSpPr>
          <p:nvPr>
            <p:ph type="sldNum" idx="9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695E-1ACC-48C1-96FA-1A5B280544C7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9A56-FDAD-47BB-996B-CA676C807243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QIA 2006. All rights reserved</a:t>
            </a:r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CCD5-6904-438C-B96A-FEBD9019CB9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68A-BC81-496B-973B-D092B7E4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3E5-0E53-4D3D-94FC-9B895EE8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83605-EB45-441A-9B16-9DBDC915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B213F-780E-4D22-9C68-03F24113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A6E69-1A22-4811-A60D-14CD771E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E9D9D-2709-4F5F-85C3-98D4F4FF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48EE1-470C-4809-A0CA-2DFB2658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66798-4001-49F1-8FDD-3E37BDA4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A0E31-3077-4D54-BB96-CA28BF11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2EA2E-79F3-4ED5-A68D-D5E9FC34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068C3-E902-49B9-857D-F00239D7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808-5365-44D6-A7AB-572B18FC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E80-4062-4D8D-88D9-C2588E26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1099-80B8-42B7-A6AF-18D8DEFF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DDC1B-816C-4024-8F35-7D1F3014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7643E-3295-43F4-9649-56E306FA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66AF3-4DAC-4284-9460-070A27CE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20C99-6315-4590-A54A-EBA9E74C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DE0F8-3EF2-42D2-9DB3-6451CE85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BEF5F-4555-4C29-89D7-EC293DA5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79451-31DB-4098-8C93-DFE8ECA1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15AD-69FD-49C0-BBAE-37436B2D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B34F3-28F0-4716-A079-655D5396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BECC1-D42F-4886-83E8-A524161E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C705B-BD11-4595-B809-21FA1559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67330-3F8B-4171-B57A-50B27038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50182-2FCE-4E30-844C-878A59A3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474C3-3A04-4D39-9C34-18EA2DE7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753E7-3878-4F5C-8090-2D62C0F3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48526-645E-42FF-9463-E1E454AB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69F1D-7B76-480B-AF71-6D29802C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6384B-0C45-4834-BB6E-5950D56D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4B45-F994-4BCB-BFC4-5F2E070E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6A9D0-9BA3-4952-B5D5-47707B35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5AA7F-1977-4633-B816-591BDCF4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BA90E-D125-4794-AE21-C69A9AF4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760C7-BCC0-437F-8BC9-9736B4CA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E9FAC-1FF1-47D6-A196-C89BB21D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13136-42F5-48F4-84D1-0C8F5ABC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FAD0C-635A-4ACF-A2B8-3AB49A99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A8385-DB13-4174-BA69-ABAF35A6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56512-D5F4-4FE4-8D82-72D8FA4E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ED3C5-2309-417E-9EAB-0FB193A2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47A3-EAC2-451F-A39A-C3BAA45D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CA49B-0425-4420-A25F-D59CA2F2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1D6E1-B0E7-4ABD-930F-71041700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875E2-3623-4482-BC67-7AD99155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5FA9F-3B79-45ED-B21E-681C1AAB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E4725-EDA4-4C37-9892-F4D20A5D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83AD1-A13A-4E04-932D-6E021466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8EC97-DCA3-49D3-9900-6DCA69E1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9C693-BA8E-4C51-998C-DB33707F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F4DFB-1024-42D7-A741-85D4A1D1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B687E-EDE2-426D-B368-19D53C60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A4DA-07AD-45F1-9015-CE0C9C26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A3D8D-EE85-4F65-9E18-0927A31F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5D987-189A-40D8-8C82-C564C89A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6E81B-1145-40B5-8022-A85FB6E2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59EC4-AA2C-4F0E-A99B-DA0CDEC5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D3143-D6F6-4966-8B20-02E58619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C3E79-3E3A-472B-9D85-7B988091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C7B1C-FDF1-46D5-B2A0-A69A3859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3E5F2-5882-4F88-ACB7-6B6E47DA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624D0-C3A8-4538-9A30-11260E33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3D196-DFC7-4E3A-B5C8-ACA7DDDF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9F4E-FCF2-4E52-AC10-F9257AA2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4EB15-D7FD-4C10-B000-5FEE11E3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2ADEE-F925-4709-9420-144BFAC3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275A0-29F3-450D-9159-005EAB11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0CC55-B62B-4B82-ADBF-186D9E47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B9A6C-22AA-479F-A62B-FF0C878F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CBC43-6C11-4E73-96E2-07DB7945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69032-3BF1-4269-93CA-B1A114B5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5AC85-9419-4558-82E8-3E6DC3C5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897B8-89B4-4DA7-99E2-2B20A5B0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10A83-67D4-40FA-8B0E-0215B802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434D-4758-4782-8AD9-9311ED9F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98D4D-9BC4-4B25-A6DE-A1C1B259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C10D8-BC02-4362-AAE7-A8F2DCCA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4D7EC-D2C0-4D34-B50C-2CC311CE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7D3-83D3-4C00-AA55-3E5C4FA7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A1F4-2CB0-4811-8DB4-CCF78DE6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CEE8-D6C6-4A0F-B7E3-8C526772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6DAE-7481-48E1-BB28-36EDEE4F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B7AD-F2BB-47B6-8588-A146BD24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4EAB-58B8-4DFF-A1FF-7EBA9CF9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B834-58C5-476C-9874-D77E423E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7C1C-0F62-4F0B-B50B-CDA0BFA2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B319E-8814-4EA7-BBDE-BB81B3B3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BFD00-110E-49FD-9AC3-F92CF91A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D7DE9-DA81-41F2-B999-A307136F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7ACDA-CAF7-406F-93E6-6DC4CA33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01AF1-BE5E-4561-B4F1-C6105923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A4CF-8A0E-4AC9-8365-9FFC5C5A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66904-B29D-4442-B1F7-43111053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C009C-1AD7-4874-A716-37FD679C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05443-5FB7-4642-97CD-D64C597B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91B63-1C72-43E9-BDB7-A265391A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13499-F6C6-423E-B0CA-12CA5C2D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765F4-2D46-4263-96EC-4D8C9FE5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8607C-F4F8-4340-9C93-98E7E5EF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BB6F9-E4EA-4F4A-BE93-76F248BF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D7B91-1EED-4D27-8FD3-A177637A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6FB-6547-44A4-990A-7CDB2B50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86C1F-9831-4EA1-A692-0BF013BE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69FE2-D9E9-4A53-9D93-AAF5A56B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F3438-4982-4C42-8155-97EF9C8E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4BE0A-5CE3-4486-8A6A-A11BE8F8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1934F-3C3A-403C-9309-F7C748D9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012B4-3ADF-499A-8EB3-FAE6B5FC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DF541-6245-413F-B89F-566F688E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07759-088F-47EC-854E-BD926D0B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409E6-B7CE-43A3-90B3-87C495E3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C23DF-4F0E-486A-B59E-0A76608A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001CF-BBC5-4C3A-A1C7-BFA3EF75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472E3-4A8A-4C87-A28B-14149141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EC88C-76A1-4B5D-8BDD-ACE80385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89DBE-1EB0-4C8C-8B32-816EFC16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3CFFE-021B-406F-8AD3-F3247A6A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892FC-B68D-4795-8B9F-CFB2DAEB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9BB8F-ABCB-4F0C-BA45-8D69F000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FD3D7-EB75-4F9B-8B62-EC3EE90D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DB415-EE81-49A0-AA2E-EBF7DD5A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99EC1-5F7C-4D2B-A2C7-1004A95B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F391-307A-4386-871E-7EE32019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F9A9E-B698-4D98-AF33-783D93B8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EE334-BB77-4BB9-9F9F-12D342F5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90C5B-9DAB-435A-8E0D-35CB37AC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B6290-4281-49D3-B3E2-E4286F5F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FF8F0-942A-4D61-85CF-92BA0CB2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032FA-002C-4ACF-B947-CCEF7991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1E102-C75D-4427-8F49-DC7AA48F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1E735-A4EC-48E0-9176-6408C6D0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C9574D-3A41-4D9F-AD26-8765029C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D8760-A328-465A-9D6B-708D014B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51F8C-CB15-42A8-B90B-DB5D739C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028EFB-E7F6-43EC-A376-D659229C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1F124-E80A-459F-8C2C-CE633D2E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D274F-C04F-4DAA-9A40-CD428FB8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28ACD-9928-4E48-B659-7413DFB5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5791A-B577-4216-93F1-D2225779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EB79B-9507-4A24-8095-9375BB93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414D6-039A-4E44-99B8-AEFF67D5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99A53-0D42-459A-90DC-B6D3E46F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D5D7C-EFF9-4A91-A92D-211BC611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E72859-8E2F-4936-98B8-2237E822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6C7DC-91EE-437F-A7C5-15DAD5AE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B8A99F-BF42-4AB0-9CD3-5EF5512F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ACB99-6BEE-4149-93D4-7F345FEF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409015-386A-429B-9070-63FC9107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94353-03AF-4127-9F7E-735E709C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AFE1A-E251-4144-97F2-A5476D4B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612E4C-ED20-4128-8C0A-CF504CC1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B3C8F-A8E2-46D5-9CD1-E6C09537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FF3079-EA75-4F26-B2DC-5EAB1BCC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3950F0-470C-4AB9-8FE4-6CA6F652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02580-138C-4B36-AA54-AE0E7D31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BC3D4-5AEF-4918-AB31-D2749BFF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11D8F0-4C6C-4521-8A5B-C33702D6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1C1-FE6E-4917-8D1B-CFE560F6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B3BA4DC-DC11-4A5E-B9E8-60B44AF912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CA64182-0747-4323-8385-82F730DF17F7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F41B36A-598C-4D9C-9789-1F814871C85F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17E17E5-6583-4955-9D6B-DC5A671BD97B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856831-03AD-4726-905F-7655BD63493A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C9E89B-F982-4AC8-808E-182963BB81F8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A14F4C6-55C4-443C-989D-909492C9E105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C7FE62-12EB-469D-A483-DEB36A8F56FD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A72E1A4-B8D5-4853-B524-727230F0D48F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3FC92B-9689-40CD-903C-0EF7A327FCBC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68E997-1906-4A90-9E8E-07C29C8EBF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7EEA84-771B-4C6E-9E5B-4BEB4F14A028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5F96E-C989-4D56-AB5F-9BCC5470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AAA466C-DB89-4E91-B55D-90FA1D33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C07AB6A-ADAB-4ADC-82B8-F5093395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0FF1062-5507-48D0-8315-4EA8EB1E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822211E-496C-4F54-BF3D-1C064E45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F8B27F7-E20E-4994-A003-0DFBE4F9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8EBBC3D-0DAB-4E25-980A-5EECA8C5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F8CABBA-D02D-4A40-88F5-95001340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A1C-614E-47B7-9125-566D8FCE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DD6A8-ACC4-464D-AC66-69B67EDE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93B7440-213B-41E9-B45E-E24E27D3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F7E929A-CCC3-4DA5-BFED-E6218599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A630392-58D5-4556-B08A-E1D0E3DF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EC3FF0F-95F3-4B86-9462-D489C7E9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F606099-49F3-455F-95BC-09C0CE2F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D16C2CC-333A-4DBA-AA6C-D771FD2B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E0156E9-F83A-4A95-9F4E-FEDF0E59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12A0E95-CF8D-46D9-8FF0-AEEEE1A4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C09A045-518F-4927-930C-FAD7C7F8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EF3D0EE-307A-4642-9ADC-8F144331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AB7E5-B43C-4C7B-9990-FE37A91D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53316B-2355-4A39-BEDA-87B129C9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FC763B0-FEEB-4438-9279-C397DD58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6CBD0A7-EED2-49C6-998D-23EB8178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AF93874-D00F-42FE-A30D-117C87B3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AD5A4B7-1EB7-4E6B-BA26-B0DF350E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F48481B-99F8-400F-8E8C-FDBC348B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C481A97-4C16-46B5-894C-852295E0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AED4681-094F-4259-9539-1917C433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B0D8A5D-3D19-4D4C-B667-93EED5CA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BDDC2C9-2888-42F4-A3E0-06490AA6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A9813-52EE-449E-8A04-EC9D3BF8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65736E4-25D4-4123-9EDA-BAD99CB7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984A66E-95D2-489F-893D-F857B459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F0EEC88-0520-4924-8EF1-28CC9806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09021FC-2102-4544-9F64-E147C66B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7D7C1E0-EB21-42AE-A133-A8E37D87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17BA418-3888-4449-ACD1-F6CE35CB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DA1F1C4-8745-4E94-8D9C-F49BBDC1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B8BFF79-F2C0-41E1-82EE-752ED84C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331679B-24EA-41D6-9757-23ED7386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BE7B2-F2F5-4755-9FC4-5889B0E6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BB57C-8667-40F7-9196-8D6BB8BC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B9E71-0DA6-4FF9-A341-48A9FF45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18C23-9985-4FA0-B9D0-211FD9D0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E08372-9E1A-4126-9E96-FEDA1710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C918D35-F62E-4A29-94E0-930800FB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6F50212-EBB6-40AE-BAC6-93F19024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241FEA8-E2DE-47DB-9D8D-237DDC10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F012DDC-588D-46B9-9E1B-2092E2C0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AC3B7-B383-4386-8B8E-18028E8F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7247293-F92A-47D0-851E-DB0F34F3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EB0CE44-2343-4C38-B77F-524C3A0E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6BA6D20-4083-4700-9387-B8541969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5E3800A-1B0B-4EBE-9B23-5D75EA33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57CEFFB-1F21-4A22-B7A5-17AB17B0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950F8DA-B8AA-4CB9-95E7-49BAA533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D286D6A-DFB0-42CE-8476-A5BE5831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9F6A2CE-03DB-4CF5-8DEB-E936BFE8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AB335AB-3376-4731-923F-437480FE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C020BD2-C68A-4BC3-866D-BB09FC9F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780A2-3221-4CF1-9CB9-CFF7ADB6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3DFD42C-2EA0-43FC-BA8A-3EE753E7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82A6CF3-64A8-4ABE-9AEE-4DA5B7DC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4725D83-0B2C-4DCE-94C9-20E7579C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960A049-5863-4FD0-9610-52CFAB51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5AA71A2-02C7-4DC5-80D2-BB423802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87FFB7C-8DEE-4ECA-B43A-9D17C65F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764C128-0781-4CCC-8F7B-25A14C6A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490CCA8-26CE-4E18-A803-F95A19B3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03586A1-306D-4469-9F82-620966A0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0CD2835-369F-402A-ABDB-2536204C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264FD-2FF0-444B-A622-682F412A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8176E25-CD47-4537-9B40-DDD44DA9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0DC5266-8E70-4C4F-92B5-E7BC36EC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FA7D92A-C0C5-4E35-97CA-94AE0DA4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95AE667-86AD-4660-A6AA-CD90DCFE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9B39792-E59F-4BFD-A108-22AFF166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2DBC90C-C3AC-4141-80D9-1F2475E4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4DCA4C5-3B00-450C-B69D-FA8AB9C7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37F4473-22D8-47C7-A938-6CB3B447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445DC2B-DDA1-41CB-BC4B-8534BF2A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7BA9E86-11EF-4F90-BE0F-B47D3DC2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3B03-BFDC-4758-A5E0-F1B2E335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21472-A634-4959-902E-32A71B45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84E2F18-44E2-4166-A17C-9A4BCC46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BE1ADF5-F1D9-4E8D-9D90-6F2387D7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D9C29DF-CCB0-4B65-BB7D-9027D24C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C018712-1266-4AF3-942B-063ACA46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DE0870A-BC87-46E2-AD7C-9F205212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461AFDC-4CF1-4688-A8AD-3F43BD24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E70AA76-EE6A-4AE6-8654-ABF5510D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3A8E2E6-FE89-450F-B249-127B6079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A10A303-5A50-4F78-944B-046F93A1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7782EA2-F237-4DEC-ADBD-637AE85D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3A76399-7CCB-42A5-9A11-14492828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87E3E3A-741A-43A7-9A73-1F03EC32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2EF9F0F-8A62-4073-8021-AFCB9032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4A733BD-BBD9-4201-817D-6CB556C4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856756D-CE88-4678-B205-7B12BB9A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8057F03-5FEE-4B6F-AB47-02963AC5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BE8A484-FBA9-4F5D-8372-2CF67492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435DC01-A8F8-448F-8546-CAC8430D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1F53085-0FC4-48E1-98A7-CEDA3154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EC7562A-92B2-4288-9CC7-6D0083EF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02A4BA7-9D8E-4FAB-BF7A-70BFC5CF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334EA7A-7857-4953-9282-676E6963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E2CF6F0-EF29-4AC3-9ADE-6420B4EE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196A56D-2175-48C6-B540-B7746B70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412F739-524D-41FC-98F5-1104997D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AD81CB8-CD54-43E1-BD3E-C09C6919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D3CA89C-AC29-4DCD-B718-A400EA04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FC3F0AF-4F6D-4B33-812D-D430EE1B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51E1977-2C4D-47ED-B037-4CCD4F40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F03C3DD-1919-4063-86DF-1EF541A8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5881E83-1CC2-4D95-B0B1-56AE0C60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E24F0AB-B405-4CFA-B5AC-3FFB7894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8424735-32BD-43F0-8A56-EE2218B1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51B4843-499A-433E-9056-488157DA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6C9674D-0612-4D7C-AF0A-E34B0A5E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9647AE0-CB61-4B73-A226-03DB2ED7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42B447C-8AB4-4969-A8BF-72948D10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08F48CE-E0AC-4CD9-B2F9-CB0BD925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F983566-1796-43A6-9F0D-EDFDF425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2B7321E-4DFF-4990-BD08-50D0FA09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D046271-11D0-4A82-B1B6-35301444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CD5A15B-526C-47ED-A780-85311990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811F20E-864E-41C4-AC70-0812D049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42E90AB-C4B9-42A7-B67F-78780C7A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283004D-74D1-4CBB-857B-206BD143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17387B9-E193-4760-BA61-B7C449F5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8017DE9-4B3D-4947-AC95-B27B8EA8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BA78353-C54C-4472-B01D-6813FD6C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3ED835A-9681-494D-A606-6AFDC247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63ABCDE-F094-464D-9E27-A6C259FD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20F20AD-1B42-47CD-BD71-006430C7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0B5C6F9-D33E-43E9-985B-6A43E035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A3504D1-6EF8-42ED-9659-681A46C6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6ED83E2-3629-4DE6-8A91-5BE4602A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F356CB6-836E-4A85-9C7C-1FEC0429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C507A10-D547-4FEE-B6C0-1B9C8F51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3DF5C28-2D22-48E9-B3FA-0639ED6B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C28DC17-7BFF-4150-915F-3F3CFBF4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CEEE204-6C6D-486A-8FC8-FE1BE447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486807D-D669-4ECD-9DCE-FC35260B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94DED05-5751-4EF1-8C55-7B2BD91F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DA1A24D-527E-4B6D-83B9-59E8944E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ED652EB-AACE-4CB4-BBE8-F0AFC7D9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42AE969-21CB-47A9-A10C-E7CCDC36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C2E7DCD-070F-4C58-9C81-8CE63574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709A00D-EEDE-497E-8A66-3913DD45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E300791-E690-4CE5-B16F-A5AF846B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3B8E6C4-677F-4A33-8AF9-984DEB1A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109781F-CCBD-43B7-9056-41EA47AB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160B39D-6D13-4829-8259-81820928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7F2DF0A-B371-4F29-A04B-617505AA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9B8E09A-A250-4824-A53E-DB9068FC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FC741D4-2F40-484A-AC86-744E6B20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5A696EA-5C38-4B06-B2F0-562CD6D8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DB95376-730A-497E-BB37-B3819F6D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C44356E-6CCF-431D-80DC-7F1DD0DE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D4802F2-BD9D-42D1-A48C-50DC52ED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26F439D-8C06-4F5E-A3AF-5B51A004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2ED3243-FFEF-4AE8-9527-7AA65E13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F44C569-B073-494E-85BA-B8812B8A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E9015FB-6CC8-495F-BC2B-06945910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CE9741C-7086-4307-A1FC-C6D1E31E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1C23985-44F6-456D-8140-B4AB7B36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D9CCB92-402E-43BF-B929-B9AA0EEB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88E6A63-DC4A-496D-BDA5-2C3E5EED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13C277B-C28C-4BE2-BF38-19B245BD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C84C257-E809-4502-A28A-DB0D4C52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635B380-2FC4-4B9F-ADD0-192C09BE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CAAE6ED-EB30-4839-B3E4-63D97AEB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2AAC1C6-4938-45FC-9135-EE8AC7D4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47D2F71-7720-4E4B-B57D-9CCDF162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D299582-82FD-47CE-A66C-C2EA9B9D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499632A-ED34-40D2-87C2-348E91E7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E9B433E-6DF3-4D9E-A25D-CFF1DE1B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69E16F3-5AD0-475D-A4AE-3041E05B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ADC87EB-683E-488E-9DFA-43C07040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6326733-0BCC-4C9B-94C3-41FA4B24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702-3C5D-4E4C-B41B-571A91C8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CB2-1B6F-45C3-9F42-BC0DB0C3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97B-37DD-4F57-9FE0-B901F5EB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41699-0E8A-4A21-AE38-5E937609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E236D-3F4A-47E9-893A-98DE97D2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DADE7-8464-442D-AAD2-C053275C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61.xml"/><Relationship Id="rId8" Type="http://schemas.openxmlformats.org/officeDocument/2006/relationships/slideLayout" Target="../slideLayouts/slideLayout362.xml"/><Relationship Id="rId9" Type="http://schemas.openxmlformats.org/officeDocument/2006/relationships/slideLayout" Target="../slideLayouts/slideLayout363.xml"/><Relationship Id="rId10" Type="http://schemas.openxmlformats.org/officeDocument/2006/relationships/slideLayout" Target="../slideLayouts/slideLayout364.xml"/><Relationship Id="rId11" Type="http://schemas.openxmlformats.org/officeDocument/2006/relationships/slideLayout" Target="../slideLayouts/slideLayout365.xml"/><Relationship Id="rId12" Type="http://schemas.openxmlformats.org/officeDocument/2006/relationships/slideLayout" Target="../slideLayouts/slideLayout366.xml"/><Relationship Id="rId13" Type="http://schemas.openxmlformats.org/officeDocument/2006/relationships/slideLayout" Target="../slideLayouts/slideLayout367.xml"/><Relationship Id="rId14" Type="http://schemas.openxmlformats.org/officeDocument/2006/relationships/slideLayout" Target="../slideLayouts/slideLayout368.xml"/><Relationship Id="rId15" Type="http://schemas.openxmlformats.org/officeDocument/2006/relationships/slideLayout" Target="../slideLayouts/slideLayout369.xml"/><Relationship Id="rId16" Type="http://schemas.openxmlformats.org/officeDocument/2006/relationships/slideLayout" Target="../slideLayouts/slideLayout370.xml"/><Relationship Id="rId17" Type="http://schemas.openxmlformats.org/officeDocument/2006/relationships/slideLayout" Target="../slideLayouts/slideLayout371.xml"/><Relationship Id="rId18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7.jpeg"/><Relationship Id="rId3" Type="http://schemas.openxmlformats.org/officeDocument/2006/relationships/image" Target="../media/image19.pn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09.xml"/><Relationship Id="rId7" Type="http://schemas.openxmlformats.org/officeDocument/2006/relationships/slideLayout" Target="../slideLayouts/slideLayout410.xml"/><Relationship Id="rId8" Type="http://schemas.openxmlformats.org/officeDocument/2006/relationships/slideLayout" Target="../slideLayouts/slideLayout411.xml"/><Relationship Id="rId9" Type="http://schemas.openxmlformats.org/officeDocument/2006/relationships/slideLayout" Target="../slideLayouts/slideLayout412.xml"/><Relationship Id="rId10" Type="http://schemas.openxmlformats.org/officeDocument/2006/relationships/slideLayout" Target="../slideLayouts/slideLayout413.xml"/><Relationship Id="rId11" Type="http://schemas.openxmlformats.org/officeDocument/2006/relationships/slideLayout" Target="../slideLayouts/slideLayout414.xml"/><Relationship Id="rId12" Type="http://schemas.openxmlformats.org/officeDocument/2006/relationships/slideLayout" Target="../slideLayouts/slideLayout415.xml"/><Relationship Id="rId13" Type="http://schemas.openxmlformats.org/officeDocument/2006/relationships/slideLayout" Target="../slideLayouts/slideLayout416.xml"/><Relationship Id="rId14" Type="http://schemas.openxmlformats.org/officeDocument/2006/relationships/slideLayout" Target="../slideLayouts/slideLayout417.xml"/><Relationship Id="rId15" Type="http://schemas.openxmlformats.org/officeDocument/2006/relationships/slideLayout" Target="../slideLayouts/slideLayout418.xml"/><Relationship Id="rId16" Type="http://schemas.openxmlformats.org/officeDocument/2006/relationships/slideLayout" Target="../slideLayouts/slideLayout419.xml"/><Relationship Id="rId17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0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2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29.xml"/><Relationship Id="rId8" Type="http://schemas.openxmlformats.org/officeDocument/2006/relationships/slideLayout" Target="../slideLayouts/slideLayout530.xml"/><Relationship Id="rId9" Type="http://schemas.openxmlformats.org/officeDocument/2006/relationships/slideLayout" Target="../slideLayouts/slideLayout531.xml"/><Relationship Id="rId10" Type="http://schemas.openxmlformats.org/officeDocument/2006/relationships/slideLayout" Target="../slideLayouts/slideLayout532.xml"/><Relationship Id="rId11" Type="http://schemas.openxmlformats.org/officeDocument/2006/relationships/slideLayout" Target="../slideLayouts/slideLayout533.xml"/><Relationship Id="rId12" Type="http://schemas.openxmlformats.org/officeDocument/2006/relationships/slideLayout" Target="../slideLayouts/slideLayout534.xml"/><Relationship Id="rId13" Type="http://schemas.openxmlformats.org/officeDocument/2006/relationships/slideLayout" Target="../slideLayouts/slideLayout535.xml"/><Relationship Id="rId14" Type="http://schemas.openxmlformats.org/officeDocument/2006/relationships/slideLayout" Target="../slideLayouts/slideLayout536.xml"/><Relationship Id="rId15" Type="http://schemas.openxmlformats.org/officeDocument/2006/relationships/slideLayout" Target="../slideLayouts/slideLayout537.xml"/><Relationship Id="rId16" Type="http://schemas.openxmlformats.org/officeDocument/2006/relationships/slideLayout" Target="../slideLayouts/slideLayout538.xml"/><Relationship Id="rId17" Type="http://schemas.openxmlformats.org/officeDocument/2006/relationships/slideLayout" Target="../slideLayouts/slideLayout539.xml"/><Relationship Id="rId18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A9C8-6D79-4BD2-9573-4EE9303BDE8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1" marL="55080" indent="-5508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2" marL="18288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3" marL="118800" indent="-63360">
              <a:spcBef>
                <a:spcPts val="550"/>
              </a:spcBef>
              <a:spcAft>
                <a:spcPts val="601"/>
              </a:spcAft>
              <a:buClr>
                <a:srgbClr val="a4a5a5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4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5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6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7377-04BC-41D1-9309-E9AD49466E9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19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20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21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FB23-66AF-46ED-BAF6-EDF9C43BD5C7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9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0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1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22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23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24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C30A-190C-44DE-B5C4-87FB4FA52236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4"/>
          <p:cNvSpPr/>
          <p:nvPr/>
        </p:nvSpPr>
        <p:spPr>
          <a:xfrm>
            <a:off x="5181480" y="586728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600" y="191880"/>
            <a:ext cx="868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25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26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27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6F5A-177F-4611-8DE9-4E1C447C90DD}" type="slidenum">
              <a:rPr b="0" lang="fi-FI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28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9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0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9516-51D0-4FDA-85BD-3901C3EEB7EE}" type="slidenum">
              <a:rPr b="0" lang="fi-FI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1D35-34FC-4590-B9E2-138F238BFFD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258920" y="260280"/>
            <a:ext cx="2174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Snip Single Corner Rectangle 1"/>
          <p:cNvSpPr/>
          <p:nvPr/>
        </p:nvSpPr>
        <p:spPr>
          <a:xfrm flipV="1">
            <a:off x="0" y="70920"/>
            <a:ext cx="8929800" cy="571680"/>
          </a:xfrm>
          <a:custGeom>
            <a:avLst/>
            <a:gdLst>
              <a:gd name="textAreaLeft" fmla="*/ 0 w 8929800"/>
              <a:gd name="textAreaRight" fmla="*/ 8787240 w 8929800"/>
              <a:gd name="textAreaTop" fmla="*/ 142920 h 571680"/>
              <a:gd name="textAreaBottom" fmla="*/ 572040 h 571680"/>
            </a:gdLst>
            <a:ahLst/>
            <a:rect l="textAreaLeft" t="textAreaTop" r="textAreaRight" b="textAreaBottom"/>
            <a:pathLst>
              <a:path w="8929688" h="571500">
                <a:moveTo>
                  <a:pt x="0" y="0"/>
                </a:moveTo>
                <a:lnTo>
                  <a:pt x="8643938" y="0"/>
                </a:lnTo>
                <a:lnTo>
                  <a:pt x="8929688" y="285750"/>
                </a:lnTo>
                <a:lnTo>
                  <a:pt x="8929688" y="571500"/>
                </a:lnTo>
                <a:lnTo>
                  <a:pt x="0" y="571500"/>
                </a:lnTo>
                <a:close/>
              </a:path>
            </a:pathLst>
          </a:custGeom>
          <a:gradFill rotWithShape="0">
            <a:gsLst>
              <a:gs pos="0">
                <a:srgbClr val="4d3900"/>
              </a:gs>
              <a:gs pos="100000">
                <a:srgbClr val="896700"/>
              </a:gs>
            </a:gsLst>
            <a:lin ang="2700000"/>
          </a:gradFill>
          <a:ln w="93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5DE4-4C52-4750-A553-3262DD3BD66A}" type="slidenum">
              <a:rPr b="0" lang="en-IE" sz="2400" spc="-1" strike="noStrike">
                <a:solidFill>
                  <a:srgbClr val="afdaf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dt" idx="3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ftr" idx="3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sldNum" idx="3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C5DB-84B3-41A3-9610-F05C4C4EE52C}" type="slidenum">
              <a:rPr b="0" lang="fi-FI" sz="2400" spc="-1" strike="noStrike">
                <a:solidFill>
                  <a:srgbClr val="afdaf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1948-4B0B-4E23-A899-9CFD35574FBF}" type="slidenum"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3490-B29A-4501-A842-C7648D0AE1CD}" type="slidenum"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4366-86BB-4094-8B9B-CAD8444E54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FAEE-91DA-45AF-9758-4C62A11730C6}" type="slidenum"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0" name="Picture 3" descr="D:\_Active projects\7 - Microsoft Innovative Schools Toolkit update\Microsoft photography\Media Bank downloads\Source JPGs\edu_sing1_7197.jpg"/>
          <p:cNvPicPr/>
          <p:nvPr/>
        </p:nvPicPr>
        <p:blipFill>
          <a:blip r:embed="rId2"/>
          <a:srcRect l="23402" t="0" r="6394" b="0"/>
          <a:stretch/>
        </p:blipFill>
        <p:spPr>
          <a:xfrm>
            <a:off x="5019840" y="663480"/>
            <a:ext cx="3514680" cy="333720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3" descr="D:\_Active projects\7 - Microsoft Innovative Schools Toolkit update\Images\PowerPoint backgrounds\blueTitle.pn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2" descr="M:\Public Sector\FY10 Active Jobs\SLX00019_PiL_More Templates\STUDIO\Print\PiL_PPT\Partners-in-Learning_2_bL_r.png"/>
          <p:cNvPicPr/>
          <p:nvPr/>
        </p:nvPicPr>
        <p:blipFill>
          <a:blip r:embed="rId4"/>
          <a:stretch/>
        </p:blipFill>
        <p:spPr>
          <a:xfrm>
            <a:off x="457200" y="6146640"/>
            <a:ext cx="1766880" cy="40824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D:\_Active projects\7 - Microsoft Innovative Schools Toolkit update\Images\Action icons\actionLeavesBlue.png"/>
          <p:cNvPicPr/>
          <p:nvPr/>
        </p:nvPicPr>
        <p:blipFill>
          <a:blip r:embed="rId5">
            <a:lum bright="-8000"/>
          </a:blip>
          <a:stretch/>
        </p:blipFill>
        <p:spPr>
          <a:xfrm>
            <a:off x="3772080" y="647640"/>
            <a:ext cx="1247760" cy="1447920"/>
          </a:xfrm>
          <a:prstGeom prst="rect">
            <a:avLst/>
          </a:prstGeom>
          <a:ln w="0">
            <a:noFill/>
          </a:ln>
        </p:spPr>
      </p:pic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7"/>
    <p:sldLayoutId id="2147484040" r:id="rId8"/>
    <p:sldLayoutId id="2147484041" r:id="rId9"/>
    <p:sldLayoutId id="2147484042" r:id="rId10"/>
    <p:sldLayoutId id="2147484043" r:id="rId11"/>
    <p:sldLayoutId id="2147484044" r:id="rId12"/>
    <p:sldLayoutId id="2147484045" r:id="rId13"/>
    <p:sldLayoutId id="2147484046" r:id="rId14"/>
    <p:sldLayoutId id="2147484047" r:id="rId15"/>
    <p:sldLayoutId id="2147484048" r:id="rId16"/>
    <p:sldLayoutId id="2147484049" r:id="rId17"/>
    <p:sldLayoutId id="2147484050" r:id="rId18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8" name="Picture 3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Picture 3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pic>
        <p:nvPicPr>
          <p:cNvPr id="1338" name="Picture 2" descr="M:\Public Sector\FY10 Active Jobs\SLX00019_PiL_More Templates\STUDIO\Print\PiL_PPT\Partners-in-Learning_2_bL_r.png"/>
          <p:cNvPicPr/>
          <p:nvPr/>
        </p:nvPicPr>
        <p:blipFill>
          <a:blip r:embed="rId4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6"/>
    <p:sldLayoutId id="2147484092" r:id="rId7"/>
    <p:sldLayoutId id="2147484093" r:id="rId8"/>
    <p:sldLayoutId id="2147484094" r:id="rId9"/>
    <p:sldLayoutId id="2147484095" r:id="rId10"/>
    <p:sldLayoutId id="2147484096" r:id="rId11"/>
    <p:sldLayoutId id="2147484097" r:id="rId12"/>
    <p:sldLayoutId id="2147484098" r:id="rId13"/>
    <p:sldLayoutId id="2147484099" r:id="rId14"/>
    <p:sldLayoutId id="2147484100" r:id="rId15"/>
    <p:sldLayoutId id="2147484101" r:id="rId16"/>
    <p:sldLayoutId id="2147484102" r:id="rId17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91880"/>
            <a:ext cx="868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e3ebf1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81480" y="586728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Straight Connector 6"/>
          <p:cNvSpPr/>
          <p:nvPr/>
        </p:nvSpPr>
        <p:spPr>
          <a:xfrm flipH="1">
            <a:off x="34920" y="6453360"/>
            <a:ext cx="9144000" cy="0"/>
          </a:xfrm>
          <a:prstGeom prst="line">
            <a:avLst/>
          </a:prstGeom>
          <a:ln w="93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 type="sldNum" idx="46"/>
          </p:nvPr>
        </p:nvSpPr>
        <p:spPr>
          <a:xfrm>
            <a:off x="6975000" y="6447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Straight Connector 6"/>
          <p:cNvSpPr/>
          <p:nvPr/>
        </p:nvSpPr>
        <p:spPr>
          <a:xfrm flipH="1">
            <a:off x="34920" y="6524640"/>
            <a:ext cx="9144000" cy="0"/>
          </a:xfrm>
          <a:prstGeom prst="line">
            <a:avLst/>
          </a:prstGeom>
          <a:ln w="93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0" name="TextBox 7"/>
          <p:cNvSpPr/>
          <p:nvPr/>
        </p:nvSpPr>
        <p:spPr>
          <a:xfrm>
            <a:off x="7740720" y="65516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5B762EA5-FC31-4FD0-B056-73EED0F58556}" type="slidenum">
              <a:rPr b="0" lang="en-GB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6D73-F1C3-4AB5-A255-25811065BFEB}" type="slidenum"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E5EC-3833-482D-B0FB-1EDA0C22F916}" type="slidenum"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dt" idx="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ftr" idx="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fdaf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9856-7D52-45BD-9FE7-28E0CE2B7994}" type="slidenum">
              <a:rPr b="0" lang="en-US" sz="2400" spc="-1" strike="noStrike">
                <a:solidFill>
                  <a:srgbClr val="afdaf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6" name="Picture 3" descr="C:\Documents and Settings\rob.morrison\Desktop\PiL_PPT\Picture 20.png"/>
          <p:cNvPicPr/>
          <p:nvPr/>
        </p:nvPicPr>
        <p:blipFill>
          <a:blip r:embed="rId2"/>
          <a:srcRect l="7429" t="0" r="15435" b="11084"/>
          <a:stretch/>
        </p:blipFill>
        <p:spPr>
          <a:xfrm>
            <a:off x="4991040" y="582480"/>
            <a:ext cx="3514680" cy="3494160"/>
          </a:xfrm>
          <a:prstGeom prst="rect">
            <a:avLst/>
          </a:prstGeom>
          <a:ln w="0">
            <a:noFill/>
          </a:ln>
        </p:spPr>
      </p:pic>
      <p:pic>
        <p:nvPicPr>
          <p:cNvPr id="1727" name="Picture 3" descr="D:\_Active projects\7 - Microsoft Innovative Schools Toolkit update\Images\PowerPoint backgrounds\blueTitle.pn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728" name="Picture 2" descr="M:\Public Sector\FY10 Active Jobs\SLX00019_PiL_More Templates\STUDIO\Print\PiL_PPT\Partners-in-Learning_2_bL_r.png"/>
          <p:cNvPicPr/>
          <p:nvPr/>
        </p:nvPicPr>
        <p:blipFill>
          <a:blip r:embed="rId4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6" descr="yellow-square.png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3270240" y="582480"/>
            <a:ext cx="1720800" cy="1835280"/>
          </a:xfrm>
          <a:prstGeom prst="rect">
            <a:avLst/>
          </a:prstGeom>
          <a:ln w="0">
            <a:noFill/>
          </a:ln>
        </p:spPr>
      </p:pic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1" marL="55080" indent="-5508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2" marL="18288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3" marL="118800" indent="-63360">
              <a:spcBef>
                <a:spcPts val="550"/>
              </a:spcBef>
              <a:spcAft>
                <a:spcPts val="601"/>
              </a:spcAft>
              <a:buClr>
                <a:srgbClr val="a4a5a5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4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5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6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7"/>
    <p:sldLayoutId id="2147484222" r:id="rId8"/>
    <p:sldLayoutId id="2147484223" r:id="rId9"/>
    <p:sldLayoutId id="2147484224" r:id="rId10"/>
    <p:sldLayoutId id="2147484225" r:id="rId11"/>
    <p:sldLayoutId id="2147484226" r:id="rId12"/>
    <p:sldLayoutId id="2147484227" r:id="rId13"/>
    <p:sldLayoutId id="2147484228" r:id="rId14"/>
    <p:sldLayoutId id="2147484229" r:id="rId15"/>
    <p:sldLayoutId id="2147484230" r:id="rId16"/>
    <p:sldLayoutId id="2147484231" r:id="rId17"/>
    <p:sldLayoutId id="2147484232" r:id="rId18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1" marL="55080" indent="-5508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2" marL="18288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3" marL="118800" indent="-63360">
              <a:spcBef>
                <a:spcPts val="550"/>
              </a:spcBef>
              <a:spcAft>
                <a:spcPts val="601"/>
              </a:spcAft>
              <a:buClr>
                <a:srgbClr val="a4a5a5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4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5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6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1" marL="55080" indent="-5508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2" marL="18288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3" marL="118800" indent="-63360">
              <a:spcBef>
                <a:spcPts val="550"/>
              </a:spcBef>
              <a:spcAft>
                <a:spcPts val="601"/>
              </a:spcAft>
              <a:buClr>
                <a:srgbClr val="a4a5a5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4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5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  <a:p>
            <a:pPr lvl="6" marL="329040" indent="-36360">
              <a:spcBef>
                <a:spcPts val="550"/>
              </a:spcBef>
              <a:spcAft>
                <a:spcPts val="601"/>
              </a:spcAft>
              <a:buClr>
                <a:srgbClr val="afdaf6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990ca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990c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dt" idx="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 type="ftr" idx="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 type="sldNum" idx="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3C31-56DE-466B-ACF1-7A79DAAF0FB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B6C2-8ACE-48DD-982A-046277AD216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2608-2B47-4FE9-9A06-06ABCBCE14C4}" type="slidenum">
              <a:rPr b="0" lang="fi-FI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1258920" y="260280"/>
            <a:ext cx="2174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 type="ftr" idx="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 type="sldNum" idx="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F8B2-95A0-4E27-BB89-4FC9CD06620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6D7C-F16C-48EB-B9CE-F552FD66F87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9CFC-1F59-47B1-B392-4111E20B54D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0D79-40F2-4109-82A1-D4D3F66E2C5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 type="dt" idx="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 type="ftr" idx="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 type="sldNum" idx="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FB52-25E6-472E-99D3-2F988D1BFA4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 type="dt" idx="7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 type="ftr" idx="7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 type="sldNum" idx="7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33B4-E197-43E9-8FCA-45B37CB04AE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 type="sldNum" idx="8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EB43-ECC7-468D-B56B-A9C71A8214D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 type="dt" idx="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 type="ftr" idx="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 type="sldNum" idx="8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6A50-0856-4F21-AAA3-40EAC59070C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 type="dt" idx="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 type="ftr" idx="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 type="sldNum" idx="8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841F-6C6B-4218-900C-64D62E2CADC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74520" y="343080"/>
            <a:ext cx="67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82800" y="1153800"/>
            <a:ext cx="77803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1" marL="54720" indent="-54720">
              <a:spcBef>
                <a:spcPts val="550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2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3" marL="54720" indent="-54720">
              <a:spcBef>
                <a:spcPts val="550"/>
              </a:spcBef>
              <a:spcAft>
                <a:spcPts val="601"/>
              </a:spcAft>
              <a:buClr>
                <a:srgbClr val="e7711c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4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5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  <a:p>
            <a:pPr lvl="6" marL="54720" indent="-54720">
              <a:spcBef>
                <a:spcPts val="550"/>
              </a:spcBef>
              <a:spcAft>
                <a:spcPts val="601"/>
              </a:spcAft>
              <a:buClr>
                <a:srgbClr val="fffcf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d7d8d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d7d8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A255-E148-4C0A-96E4-1B290A31F45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ubbl.us/" TargetMode="External"/><Relationship Id="rId2" Type="http://schemas.openxmlformats.org/officeDocument/2006/relationships/hyperlink" Target="http://scratch.mit.edu/" TargetMode="External"/><Relationship Id="rId3" Type="http://schemas.openxmlformats.org/officeDocument/2006/relationships/hyperlink" Target="http://scratch.mit.edu/" TargetMode="External"/><Relationship Id="rId4" Type="http://schemas.openxmlformats.org/officeDocument/2006/relationships/hyperlink" Target="http://phet.colorado.edu/" TargetMode="External"/><Relationship Id="rId5" Type="http://schemas.openxmlformats.org/officeDocument/2006/relationships/hyperlink" Target="http://phet.colorado.edu/" TargetMode="External"/><Relationship Id="rId6" Type="http://schemas.openxmlformats.org/officeDocument/2006/relationships/hyperlink" Target="http://www.photosynth.com/" TargetMode="External"/><Relationship Id="rId7" Type="http://schemas.openxmlformats.org/officeDocument/2006/relationships/hyperlink" Target="http://bit.ly/hWZFY9" TargetMode="External"/><Relationship Id="rId8" Type="http://schemas.openxmlformats.org/officeDocument/2006/relationships/hyperlink" Target="http://bit.ly/hWZFY9" TargetMode="External"/><Relationship Id="rId9" Type="http://schemas.openxmlformats.org/officeDocument/2006/relationships/slideLayout" Target="../slideLayouts/slideLayout4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6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L9Wu2kWwSY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4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4" name="Picture 4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9144000" cy="529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eful links referred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"/>
          <p:cNvSpPr txBox="1"/>
          <p:nvPr/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llaborative mindmapping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ubbl.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imation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cratch.mit.edu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imulations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phet.colorado.edu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D Environments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photosynth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gital storytelling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bit.ly/hWZFY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3930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Marble 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subTitle"/>
          </p:nvPr>
        </p:nvSpPr>
        <p:spPr>
          <a:xfrm>
            <a:off x="323640" y="2276280"/>
            <a:ext cx="721188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lay the marble drop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4" name="Picture 4" descr="MarblePicture"/>
          <p:cNvPicPr/>
          <p:nvPr/>
        </p:nvPicPr>
        <p:blipFill>
          <a:blip r:embed="rId1"/>
          <a:stretch/>
        </p:blipFill>
        <p:spPr>
          <a:xfrm>
            <a:off x="5456160" y="2600280"/>
            <a:ext cx="3514680" cy="425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279000" y="1736280"/>
            <a:ext cx="8502840" cy="455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504d"/>
                </a:solidFill>
                <a:latin typeface="Calibri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a structure of card that allows a marble to trave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om the height of a piece of A4 paper to the desk top – taking th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ximum amount of time possibl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! 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have 20 minutes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longest travel time wins –judges decision final!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are provided with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4 card x 6 ,  sticky tape, scissors, marbl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ood luck!!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-181080" y="336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agine it’s the year 2030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would a science classroom look like in the year 203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would science learning look like in year 203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is the one thing you would change in the way you learn scienc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toda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o be closer to your 2030 vis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3" descr=""/>
          <p:cNvPicPr/>
          <p:nvPr/>
        </p:nvPicPr>
        <p:blipFill>
          <a:blip r:embed="rId1"/>
          <a:stretch/>
        </p:blipFill>
        <p:spPr>
          <a:xfrm>
            <a:off x="7596360" y="465120"/>
            <a:ext cx="1392120" cy="88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Text Box 2"/>
          <p:cNvSpPr/>
          <p:nvPr/>
        </p:nvSpPr>
        <p:spPr>
          <a:xfrm>
            <a:off x="4030200" y="1330200"/>
            <a:ext cx="19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0" name="Rectangle 3"/>
          <p:cNvSpPr/>
          <p:nvPr/>
        </p:nvSpPr>
        <p:spPr>
          <a:xfrm>
            <a:off x="2987640" y="278136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ldev@imagineeducation.net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1" name="Rectangle 4"/>
          <p:cNvSpPr/>
          <p:nvPr/>
        </p:nvSpPr>
        <p:spPr>
          <a:xfrm>
            <a:off x="1258920" y="260280"/>
            <a:ext cx="2174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342" name="Picture 5" descr="logo"/>
          <p:cNvPicPr/>
          <p:nvPr/>
        </p:nvPicPr>
        <p:blipFill>
          <a:blip r:embed="rId1"/>
          <a:stretch/>
        </p:blipFill>
        <p:spPr>
          <a:xfrm>
            <a:off x="108000" y="5892840"/>
            <a:ext cx="1655640" cy="849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/>
          </p:nvPr>
        </p:nvSpPr>
        <p:spPr>
          <a:xfrm>
            <a:off x="971280" y="981000"/>
            <a:ext cx="749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25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1" lang="en-US" sz="3400" spc="-1" strike="noStrike">
                <a:solidFill>
                  <a:srgbClr val="ffffff"/>
                </a:solidFill>
                <a:latin typeface="Tw Cen MT"/>
              </a:rPr>
              <a:t>My goal in life is to find ways in which children can use technology as a constructive medium </a:t>
            </a:r>
            <a:r>
              <a:rPr b="1" lang="en-US" sz="3400" spc="-1" strike="noStrike">
                <a:solidFill>
                  <a:srgbClr val="ff3300"/>
                </a:solidFill>
                <a:latin typeface="Tw Cen MT"/>
              </a:rPr>
              <a:t>to do things that they could not do before</a:t>
            </a:r>
            <a:r>
              <a:rPr b="1" lang="en-US" sz="3400" spc="-1" strike="noStrike">
                <a:solidFill>
                  <a:srgbClr val="ffffff"/>
                </a:solidFill>
                <a:latin typeface="Tw Cen MT"/>
              </a:rPr>
              <a:t>; to do things at a level of </a:t>
            </a:r>
            <a:r>
              <a:rPr b="1" lang="en-US" sz="3400" spc="-1" strike="noStrike">
                <a:solidFill>
                  <a:srgbClr val="ff3300"/>
                </a:solidFill>
                <a:latin typeface="Tw Cen MT"/>
              </a:rPr>
              <a:t>complexity that was not previously accessible</a:t>
            </a:r>
            <a:r>
              <a:rPr b="1" lang="en-US" sz="3400" spc="-1" strike="noStrike">
                <a:solidFill>
                  <a:srgbClr val="ffffff"/>
                </a:solidFill>
                <a:latin typeface="Tw Cen MT"/>
              </a:rPr>
              <a:t> to children”</a:t>
            </a: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rof. Seymour Papert 1998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06" name="Text Box 3"/>
          <p:cNvSpPr/>
          <p:nvPr/>
        </p:nvSpPr>
        <p:spPr>
          <a:xfrm>
            <a:off x="555948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/>
          </p:nvPr>
        </p:nvSpPr>
        <p:spPr>
          <a:xfrm>
            <a:off x="971280" y="981000"/>
            <a:ext cx="749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25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d1419"/>
                </a:solidFill>
                <a:latin typeface="Tw Cen MT"/>
              </a:rPr>
              <a:t>“</a:t>
            </a:r>
            <a:r>
              <a:rPr b="1" lang="en-US" sz="3400" spc="-1" strike="noStrike">
                <a:solidFill>
                  <a:srgbClr val="0d1419"/>
                </a:solidFill>
                <a:latin typeface="Tw Cen MT"/>
              </a:rPr>
              <a:t>My goal in life is to find ways in which children can use technology as a constructive medium</a:t>
            </a:r>
            <a:r>
              <a:rPr b="1" lang="en-US" sz="3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3400" spc="-1" strike="noStrike">
                <a:solidFill>
                  <a:srgbClr val="ff3300"/>
                </a:solidFill>
                <a:latin typeface="Tw Cen MT"/>
              </a:rPr>
              <a:t>to do things that they could not do before</a:t>
            </a:r>
            <a:r>
              <a:rPr b="1" lang="en-US" sz="3400" spc="-1" strike="noStrike">
                <a:solidFill>
                  <a:srgbClr val="0d1419"/>
                </a:solidFill>
                <a:latin typeface="Tw Cen MT"/>
              </a:rPr>
              <a:t>; to do things at a level of complexity that was not previously accessible to children”</a:t>
            </a: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d1419"/>
                </a:solidFill>
                <a:latin typeface="Tw Cen MT"/>
              </a:rPr>
              <a:t>Prof. Seymour Papert 1998</a:t>
            </a: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08" name="Text Box 3"/>
          <p:cNvSpPr/>
          <p:nvPr/>
        </p:nvSpPr>
        <p:spPr>
          <a:xfrm>
            <a:off x="555948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/>
          </p:nvPr>
        </p:nvSpPr>
        <p:spPr>
          <a:xfrm>
            <a:off x="971280" y="692280"/>
            <a:ext cx="7499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w Cen MT"/>
              </a:rPr>
              <a:t>The Moment!</a:t>
            </a:r>
            <a:endParaRPr b="0" lang="en-US" sz="3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0" name="Text Box 3"/>
          <p:cNvSpPr/>
          <p:nvPr/>
        </p:nvSpPr>
        <p:spPr>
          <a:xfrm>
            <a:off x="555948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1" name="Text Box 4"/>
          <p:cNvSpPr/>
          <p:nvPr/>
        </p:nvSpPr>
        <p:spPr>
          <a:xfrm>
            <a:off x="6943680" y="6564240"/>
            <a:ext cx="21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sentation by Bruce Dix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2" name="Rectangle 5"/>
          <p:cNvSpPr/>
          <p:nvPr/>
        </p:nvSpPr>
        <p:spPr>
          <a:xfrm>
            <a:off x="4859280" y="5805360"/>
            <a:ext cx="4284720" cy="10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313" name="Picture 6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616720" cy="4519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228600" y="191880"/>
            <a:ext cx="868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Tw Cen MT"/>
            </a:endParaRPr>
          </a:p>
        </p:txBody>
      </p:sp>
      <p:pic>
        <p:nvPicPr>
          <p:cNvPr id="2315" name="" descr=""/>
          <p:cNvPicPr/>
          <p:nvPr/>
        </p:nvPicPr>
        <p:blipFill>
          <a:blip r:embed="rId1"/>
          <a:stretch/>
        </p:blipFill>
        <p:spPr>
          <a:xfrm>
            <a:off x="228600" y="1294920"/>
            <a:ext cx="8686800" cy="4419720"/>
          </a:xfrm>
          <a:prstGeom prst="rect">
            <a:avLst/>
          </a:prstGeom>
          <a:ln w="0">
            <a:noFill/>
          </a:ln>
        </p:spPr>
      </p:pic>
      <p:pic>
        <p:nvPicPr>
          <p:cNvPr id="2316" name="Picture 3" descr=""/>
          <p:cNvPicPr/>
          <p:nvPr/>
        </p:nvPicPr>
        <p:blipFill>
          <a:blip r:embed="rId2"/>
          <a:stretch/>
        </p:blipFill>
        <p:spPr>
          <a:xfrm>
            <a:off x="835200" y="993600"/>
            <a:ext cx="7261200" cy="7901280"/>
          </a:xfrm>
          <a:prstGeom prst="rect">
            <a:avLst/>
          </a:prstGeom>
          <a:ln w="0">
            <a:noFill/>
          </a:ln>
        </p:spPr>
      </p:pic>
      <p:sp>
        <p:nvSpPr>
          <p:cNvPr id="2317" name="Rectangle 4"/>
          <p:cNvSpPr/>
          <p:nvPr/>
        </p:nvSpPr>
        <p:spPr>
          <a:xfrm>
            <a:off x="5072040" y="5786280"/>
            <a:ext cx="4071960" cy="107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0" name="Picture 4" descr=""/>
          <p:cNvPicPr/>
          <p:nvPr/>
        </p:nvPicPr>
        <p:blipFill>
          <a:blip r:embed="rId1"/>
          <a:srcRect l="11075" t="17227" r="11075" b="9844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23" name="Picture 3" descr=""/>
          <p:cNvPicPr/>
          <p:nvPr/>
        </p:nvPicPr>
        <p:blipFill>
          <a:blip r:embed="rId2"/>
          <a:stretch/>
        </p:blipFill>
        <p:spPr>
          <a:xfrm>
            <a:off x="357120" y="1295280"/>
            <a:ext cx="842976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26" name="Picture 2" descr=""/>
          <p:cNvPicPr/>
          <p:nvPr/>
        </p:nvPicPr>
        <p:blipFill>
          <a:blip r:embed="rId2"/>
          <a:stretch/>
        </p:blipFill>
        <p:spPr>
          <a:xfrm>
            <a:off x="666720" y="628560"/>
            <a:ext cx="7810560" cy="560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9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907920"/>
            <a:ext cx="78548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2:33:49Z</dcterms:created>
  <dc:creator>RS</dc:creator>
  <dc:description/>
  <dc:language>en-US</dc:language>
  <cp:lastModifiedBy> </cp:lastModifiedBy>
  <dcterms:modified xsi:type="dcterms:W3CDTF">2011-05-04T11:51:44Z</dcterms:modified>
  <cp:revision>535</cp:revision>
  <dc:subject/>
  <dc:title>Slide 1</dc:title>
</cp:coreProperties>
</file>